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914C-E769-499A-9E18-F3A23DF10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983D-D9D5-4244-A631-CF767DB66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ACC-4D38-40AF-A1F8-BF12D237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5F4-21CD-44B9-8D8D-B0FD2A22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D84-A307-4D60-8A39-A0F74D3E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A54-1F4A-4161-BD78-CF23F03E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F17-E3E1-4A12-8F33-1C7AED54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D9A-88B5-48B7-BF44-0FE2BCBB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8F1-ADDD-4B38-B80B-0D7B934E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988-B9C1-4DE6-838A-1408328A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110-F56A-4871-B25D-AAA03800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326-F5D2-43AF-911A-B53E4535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635-4E65-4907-B426-42D2EF14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395-00C8-4971-99D1-0B0C3BDD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1ABE-7FFD-4E29-80EE-0A84260EB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at Hussei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la mi amigas! ¿Qué quieres? ¿De donde e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5627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numbre es Ayat. Vivo en New York. Yo tengo catorce años. Tengo dos hermanos, una hermana y un hermano. Yo soy bonita. Estoy feliz y enerjica. Adios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212760" y="5029200"/>
            <a:ext cx="64116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950000"/>
            <a:ext cx="536760" cy="78552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864400"/>
            <a:ext cx="543240" cy="785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02280"/>
            <a:ext cx="439560" cy="633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8098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276720"/>
            <a:ext cx="38098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oy de donde Mexico. ¿Cuánto años tiene ella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0988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ias! Soy quiero dulces! Soy de donde Ho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dios!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913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3244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5:58Z</dcterms:modified>
  <cp:revision>106</cp:revision>
  <dc:subject/>
  <dc:title>Profile</dc:title>
</cp:coreProperties>
</file>